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5.png" ContentType="image/png"/>
  <Override PartName="/ppt/media/CAMERA.WAV" ContentType="audio/x-wav"/>
  <Override PartName="/ppt/media/image2.jpeg" ContentType="image/jpeg"/>
  <Override PartName="/ppt/media/image3.jpeg" ContentType="image/jpeg"/>
  <Override PartName="/ppt/media/image6.png" ContentType="image/png"/>
  <Override PartName="/ppt/media/image10.wmf" ContentType="image/x-wmf"/>
  <Override PartName="/ppt/media/image4.jpeg" ContentType="image/jpeg"/>
  <Override PartName="/ppt/media/image1.jpeg" ContentType="image/jpeg"/>
  <Override PartName="/ppt/media/image7.png" ContentType="image/png"/>
  <Override PartName="/ppt/media/image11.wmf" ContentType="image/x-wmf"/>
  <Override PartName="/ppt/media/image12.png" ContentType="image/png"/>
  <Override PartName="/ppt/media/image13.png" ContentType="image/png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AB3D-388B-424B-9479-6B78CCBF9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5F0E-40BD-4E25-BFC5-E0CF89EBE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2270-0402-4786-85DB-D587BE4E8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A824-4E4C-4695-88F8-9DA1D299C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1D0D0-5925-41C4-8111-2228163E6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FB207-D8EE-4C4B-8958-1A1DE53A2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67D9E-EAC0-4E16-A755-D9551C273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C887C-AA21-4B5F-B02D-AB40BE8DD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1F378-E796-4C36-8DDB-FEF8281C2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F9C57-D7BD-4855-825D-98EC780B5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9C089-0CE7-45E1-AA1F-6D0FC637F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D45B-83B7-4D42-AB2D-DC3A9775D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67FCA-F3D8-45D7-90CC-731C45F63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8DB7E-6612-4231-838D-72EC4973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61C0D-2A09-4549-A9BE-A1E4B779E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09840-C920-4459-8D29-522CFB85C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4DB9F-2124-4FE4-91DB-1094E8781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48BC-EF4F-4FD6-A35D-F62B6726D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5BF9-85EC-4A24-B78C-42F80DA6A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6C58-7274-4F18-9605-DF4DB6893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774C-E595-4EF6-9567-9D7503900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A9BE-60F8-469A-87EF-DE4B020B4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8F45-294E-411E-BCD7-ADB9061C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A85B-9C2B-4E9A-8383-1A14A080B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B88E3-B5D0-475A-86EE-D48C1EE1897A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DE1F9-6CB7-4500-87E1-BFC789CEBC76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png"/><Relationship Id="rId5" Type="http://schemas.openxmlformats.org/officeDocument/2006/relationships/image" Target="../media/image1.jpeg"/><Relationship Id="rId6" Type="http://schemas.openxmlformats.org/officeDocument/2006/relationships/image" Target="../media/image3.jpeg"/><Relationship Id="rId7" Type="http://schemas.openxmlformats.org/officeDocument/2006/relationships/image" Target="../media/image2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12.png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3640" y="280800"/>
            <a:ext cx="8569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CTPOAR – Brasília – ABR/04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44400" y="1412640"/>
            <a:ext cx="80424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99ff99"/>
                </a:solidFill>
                <a:latin typeface="Tahoma"/>
              </a:rPr>
              <a:t>SISTEMA INTEGRADO DE MEIO AMBIENTE DO ESTADO DE MINAS GERA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0720"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pt-BR" sz="4000" spc="-1" strike="noStrike">
                <a:solidFill>
                  <a:srgbClr val="000000"/>
                </a:solidFill>
                <a:latin typeface="Tahoma"/>
              </a:rPr>
              <a:t>S I A M – M 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-36360" y="5635800"/>
            <a:ext cx="856908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0000"/>
                </a:solidFill>
                <a:latin typeface="Garamond"/>
              </a:rPr>
              <a:t>Divisão de Regulação e Controle</a:t>
            </a:r>
            <a:br>
              <a:rPr sz="2400"/>
            </a:br>
            <a:r>
              <a:rPr b="1" i="1" lang="pt-BR" sz="2400" spc="-1" strike="noStrike">
                <a:solidFill>
                  <a:srgbClr val="ff0000"/>
                </a:solidFill>
                <a:latin typeface="Garamond"/>
              </a:rPr>
              <a:t>Instituto Mineiro de Gestão das Águ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 rot="19488000">
            <a:off x="6659640" y="5516280"/>
            <a:ext cx="1038240" cy="66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1080000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afe1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Unicode MS"/>
              </a:rPr>
              <a:t>DvRC</a:t>
            </a:r>
            <a:endParaRPr b="0" lang="en-US" sz="2800" spc="1" strike="noStrike">
              <a:ln w="9360">
                <a:solidFill>
                  <a:srgbClr val="afe1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214" name=""/>
          <p:cNvSpPr txBox="1"/>
          <p:nvPr/>
        </p:nvSpPr>
        <p:spPr>
          <a:xfrm rot="19488000">
            <a:off x="7421400" y="5732280"/>
            <a:ext cx="1038240" cy="66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DownPour">
              <a:avLst>
                <a:gd name="adj1" fmla="val 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afe1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Unicode MS"/>
              </a:rPr>
              <a:t>IGAM</a:t>
            </a:r>
            <a:endParaRPr b="0" i="1" lang="en-US" sz="2800" spc="1" strike="noStrike">
              <a:ln w="9360">
                <a:solidFill>
                  <a:srgbClr val="afe1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762120" y="3124080"/>
            <a:ext cx="784836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62120" y="4343400"/>
            <a:ext cx="78865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 rot="19488000">
            <a:off x="6659640" y="5516280"/>
            <a:ext cx="1038240" cy="66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1080000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afe1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Unicode MS"/>
              </a:rPr>
              <a:t>DvRC</a:t>
            </a:r>
            <a:endParaRPr b="0" lang="en-US" sz="2800" spc="1" strike="noStrike">
              <a:ln w="9360">
                <a:solidFill>
                  <a:srgbClr val="afe1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340" name=""/>
          <p:cNvSpPr txBox="1"/>
          <p:nvPr/>
        </p:nvSpPr>
        <p:spPr>
          <a:xfrm rot="19488000">
            <a:off x="7421400" y="5732280"/>
            <a:ext cx="1038240" cy="66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DownPour">
              <a:avLst>
                <a:gd name="adj1" fmla="val 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afe1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Unicode MS"/>
              </a:rPr>
              <a:t>IGAM</a:t>
            </a:r>
            <a:endParaRPr b="0" i="1" lang="en-US" sz="2800" spc="1" strike="noStrike">
              <a:ln w="9360">
                <a:solidFill>
                  <a:srgbClr val="afe1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rcRect l="22880" t="950" r="22880" b="1792"/>
          <a:stretch/>
        </p:blipFill>
        <p:spPr>
          <a:xfrm>
            <a:off x="1233360" y="192240"/>
            <a:ext cx="5139000" cy="654984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 txBox="1"/>
          <p:nvPr/>
        </p:nvSpPr>
        <p:spPr>
          <a:xfrm>
            <a:off x="376200" y="349200"/>
            <a:ext cx="117144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ff99">
                    <a:alpha val="50000"/>
                  </a:srgbClr>
                </a:solidFill>
                <a:latin typeface="Arial Black"/>
              </a:rPr>
              <a:t>FCE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ff99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343" name=""/>
          <p:cNvSpPr/>
          <p:nvPr/>
        </p:nvSpPr>
        <p:spPr>
          <a:xfrm>
            <a:off x="5294880" y="920880"/>
            <a:ext cx="3594240" cy="288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440" indent="-144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DENTIFICAÇÃO DO REQUERE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908240" y="1701720"/>
            <a:ext cx="4124520" cy="288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440" indent="-144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DENTIFICAÇÃO DO EMPREENDIMEN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653800" y="3646440"/>
            <a:ext cx="2941920" cy="288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440" indent="-144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USO DE RECURSO HÍDR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10520" y="4365720"/>
            <a:ext cx="2883960" cy="288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440" indent="-144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XPLORAÇÃO FLOREST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652720" y="4941720"/>
            <a:ext cx="1872360" cy="288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440" indent="-144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LICENCIAMEN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pt-BR" sz="3200" spc="-1" strike="noStrike">
                <a:solidFill>
                  <a:srgbClr val="ffcc00"/>
                </a:solidFill>
                <a:latin typeface="Arial"/>
              </a:rPr>
              <a:t>HISTÓRICO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7931160" cy="379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144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2000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– Programa Nacional de Meio Ambiente II     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     PNMA 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2001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– Criação de Grupos de Trabalho PNMA 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2002</a:t>
            </a: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– Seminários de Integração dos processos autorizativos e fiscalização (IGAM, FEAM e IEF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2003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– Resolução SEMAD nº 146 (05/06/2003) Determina a implantação do sistema integr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 rot="19488000">
            <a:off x="6659640" y="5516280"/>
            <a:ext cx="1038240" cy="66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1080000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afe1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Unicode MS"/>
              </a:rPr>
              <a:t>DvRC</a:t>
            </a:r>
            <a:endParaRPr b="0" lang="en-US" sz="2800" spc="1" strike="noStrike">
              <a:ln w="9360">
                <a:solidFill>
                  <a:srgbClr val="afe1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218" name=""/>
          <p:cNvSpPr txBox="1"/>
          <p:nvPr/>
        </p:nvSpPr>
        <p:spPr>
          <a:xfrm rot="19488000">
            <a:off x="7421400" y="5732280"/>
            <a:ext cx="1038240" cy="66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DownPour">
              <a:avLst>
                <a:gd name="adj1" fmla="val 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afe1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Unicode MS"/>
              </a:rPr>
              <a:t>IGAM</a:t>
            </a:r>
            <a:endParaRPr b="0" i="1" lang="en-US" sz="2800" spc="1" strike="noStrike">
              <a:ln w="9360">
                <a:solidFill>
                  <a:srgbClr val="afe1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ffcc00"/>
                </a:solidFill>
                <a:latin typeface="Arial"/>
              </a:rPr>
              <a:t>RESOLUÇÃO SEMAD - Nº 146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7931160" cy="48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81080" indent="-1800" algn="just">
              <a:spcBef>
                <a:spcPts val="1375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Central de Atendimento SEMAD (“balcão único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81080" indent="-1800" algn="just">
              <a:spcBef>
                <a:spcPts val="1375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O processo deve ser iniciado na entidade SEMAD responsável pelo licenciamento ambiental, quando houver, que também se responsabilizará pela distribuição dos processos para os demais órgãos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81080" indent="-1800" algn="just">
              <a:spcBef>
                <a:spcPts val="1375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Prazo para manifestação </a:t>
            </a:r>
            <a:r>
              <a:rPr b="1" lang="pt-B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90 dias (Informações complementares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81080" indent="-1800" algn="just">
              <a:spcBef>
                <a:spcPts val="1375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Fase LP </a:t>
            </a:r>
            <a:r>
              <a:rPr b="1" lang="pt-B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manifestação prévia IGAM e IEF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81080" indent="-1800" algn="just">
              <a:spcBef>
                <a:spcPts val="1375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Outorgas </a:t>
            </a:r>
            <a:r>
              <a:rPr b="1" lang="pt-B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LI e LO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81080" indent="-1800" algn="just">
              <a:spcBef>
                <a:spcPts val="1375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Prazo integração: 1º de Dezembro 2003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81080"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 rot="19488000">
            <a:off x="6659640" y="5516280"/>
            <a:ext cx="1038240" cy="66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1080000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afe1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Unicode MS"/>
              </a:rPr>
              <a:t>DvRC</a:t>
            </a:r>
            <a:endParaRPr b="0" lang="en-US" sz="2800" spc="1" strike="noStrike">
              <a:ln w="9360">
                <a:solidFill>
                  <a:srgbClr val="afe1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222" name=""/>
          <p:cNvSpPr txBox="1"/>
          <p:nvPr/>
        </p:nvSpPr>
        <p:spPr>
          <a:xfrm rot="19488000">
            <a:off x="7421400" y="5732280"/>
            <a:ext cx="1038240" cy="66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DownPour">
              <a:avLst>
                <a:gd name="adj1" fmla="val 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afe1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Unicode MS"/>
              </a:rPr>
              <a:t>IGAM</a:t>
            </a:r>
            <a:endParaRPr b="0" i="1" lang="en-US" sz="2800" spc="1" strike="noStrike">
              <a:ln w="9360">
                <a:solidFill>
                  <a:srgbClr val="afe1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 rot="17514600">
            <a:off x="1982520" y="3907800"/>
            <a:ext cx="1523880" cy="790560"/>
          </a:xfrm>
          <a:prstGeom prst="rightArrow">
            <a:avLst>
              <a:gd name="adj1" fmla="val 50000"/>
              <a:gd name="adj2" fmla="val 4819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Unicode MS"/>
              </a:rPr>
              <a:t>LICENÇ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19467600">
            <a:off x="4816440" y="1483920"/>
            <a:ext cx="1676520" cy="790560"/>
          </a:xfrm>
          <a:prstGeom prst="rightArrow">
            <a:avLst>
              <a:gd name="adj1" fmla="val 50000"/>
              <a:gd name="adj2" fmla="val 5301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Unicode MS"/>
              </a:rPr>
              <a:t>OUTORG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rot="18906600">
            <a:off x="6644880" y="4227120"/>
            <a:ext cx="1523880" cy="790560"/>
          </a:xfrm>
          <a:prstGeom prst="rightArrow">
            <a:avLst>
              <a:gd name="adj1" fmla="val 50000"/>
              <a:gd name="adj2" fmla="val 4819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Unicode MS"/>
              </a:rPr>
              <a:t>LICENÇ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rot="805800">
            <a:off x="2759040" y="5294160"/>
            <a:ext cx="1523880" cy="790560"/>
          </a:xfrm>
          <a:prstGeom prst="rightArrow">
            <a:avLst>
              <a:gd name="adj1" fmla="val 50000"/>
              <a:gd name="adj2" fmla="val 4819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Unicode MS"/>
              </a:rPr>
              <a:t>APE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882800" y="4913280"/>
            <a:ext cx="1295280" cy="9144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537d4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ff00"/>
                </a:solidFill>
                <a:latin typeface="Arial"/>
              </a:rPr>
              <a:t>IE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692680" y="4913280"/>
            <a:ext cx="1257480" cy="9144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17181" dir="2438368" blurRad="0" rotWithShape="0">
              <a:srgbClr val="a87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E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07000" y="2093760"/>
            <a:ext cx="1295280" cy="9144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408e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G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rot="13339200">
            <a:off x="6955560" y="5663520"/>
            <a:ext cx="4748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635280" y="3846600"/>
            <a:ext cx="1600200" cy="76176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008ae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EM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rot="19149000">
            <a:off x="1393920" y="5675040"/>
            <a:ext cx="47448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rot="5217600">
            <a:off x="4216680" y="1554840"/>
            <a:ext cx="474480" cy="485640"/>
          </a:xfrm>
          <a:prstGeom prst="rightArrow">
            <a:avLst>
              <a:gd name="adj1" fmla="val 50157"/>
              <a:gd name="adj2" fmla="val 2529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9134600">
            <a:off x="2954160" y="4456080"/>
            <a:ext cx="681120" cy="485640"/>
          </a:xfrm>
          <a:prstGeom prst="leftRightArrow">
            <a:avLst>
              <a:gd name="adj1" fmla="val 50000"/>
              <a:gd name="adj2" fmla="val 27921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16195800">
            <a:off x="4113720" y="3186720"/>
            <a:ext cx="681120" cy="485640"/>
          </a:xfrm>
          <a:prstGeom prst="leftRightArrow">
            <a:avLst>
              <a:gd name="adj1" fmla="val 50000"/>
              <a:gd name="adj2" fmla="val 27921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rot="2444400">
            <a:off x="5164200" y="4503240"/>
            <a:ext cx="681120" cy="486000"/>
          </a:xfrm>
          <a:prstGeom prst="leftRightArrow">
            <a:avLst>
              <a:gd name="adj1" fmla="val 50000"/>
              <a:gd name="adj2" fmla="val 279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570840" y="112860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00"/>
                </a:solidFill>
                <a:latin typeface="Arial"/>
              </a:rPr>
              <a:t>REQUEREN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94280" y="615780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00"/>
                </a:solidFill>
                <a:latin typeface="Arial"/>
              </a:rPr>
              <a:t>ADMINISTR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647760" y="614664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00"/>
                </a:solidFill>
                <a:latin typeface="Arial"/>
              </a:rPr>
              <a:t>EMPREENDED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310480" y="189000"/>
            <a:ext cx="398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99ff99"/>
                </a:solidFill>
                <a:uFillTx/>
                <a:latin typeface="Arial"/>
              </a:rPr>
              <a:t>SITUAÇÃO ANTER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4500"/>
                            </p:stCondLst>
                            <p:childTnLst>
                              <p:par>
                                <p:cTn id="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0"/>
                            </p:stCondLst>
                            <p:childTnLst>
                              <p:par>
                                <p:cTn id="3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500"/>
                            </p:stCondLst>
                            <p:childTnLst>
                              <p:par>
                                <p:cTn id="4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6000"/>
                            </p:stCondLst>
                            <p:childTnLst>
                              <p:par>
                                <p:cTn id="4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666720" y="0"/>
            <a:ext cx="7943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95560" y="2362320"/>
            <a:ext cx="4724280" cy="3581280"/>
          </a:xfrm>
          <a:prstGeom prst="ellipse">
            <a:avLst/>
          </a:prstGeom>
          <a:gradFill rotWithShape="0">
            <a:gsLst>
              <a:gs pos="0">
                <a:srgbClr val="004646"/>
              </a:gs>
              <a:gs pos="50000">
                <a:srgbClr val="009999"/>
              </a:gs>
              <a:gs pos="100000">
                <a:srgbClr val="0046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866960" y="4952880"/>
            <a:ext cx="1295280" cy="9144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537d4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ff00"/>
                </a:solidFill>
                <a:latin typeface="Arial"/>
              </a:rPr>
              <a:t>IE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76840" y="4952880"/>
            <a:ext cx="1257480" cy="9144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17181" dir="2438368" blurRad="0" rotWithShape="0">
              <a:srgbClr val="a87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E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790800" y="2133720"/>
            <a:ext cx="1295640" cy="9144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408e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G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13339200">
            <a:off x="6940080" y="5703480"/>
            <a:ext cx="474840" cy="48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619440" y="3886200"/>
            <a:ext cx="1600200" cy="76212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008ae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EM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9149000">
            <a:off x="1378080" y="5714640"/>
            <a:ext cx="47448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5217600">
            <a:off x="4200480" y="1594440"/>
            <a:ext cx="474840" cy="485640"/>
          </a:xfrm>
          <a:prstGeom prst="rightArrow">
            <a:avLst>
              <a:gd name="adj1" fmla="val 50157"/>
              <a:gd name="adj2" fmla="val 2529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rot="19134600">
            <a:off x="2937960" y="4495320"/>
            <a:ext cx="681120" cy="486000"/>
          </a:xfrm>
          <a:prstGeom prst="leftRightArrow">
            <a:avLst>
              <a:gd name="adj1" fmla="val 50000"/>
              <a:gd name="adj2" fmla="val 279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rot="16195800">
            <a:off x="4097880" y="3226320"/>
            <a:ext cx="680760" cy="485640"/>
          </a:xfrm>
          <a:prstGeom prst="leftRightArrow">
            <a:avLst>
              <a:gd name="adj1" fmla="val 50000"/>
              <a:gd name="adj2" fmla="val 27905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rot="2444400">
            <a:off x="5148000" y="4543200"/>
            <a:ext cx="681120" cy="485640"/>
          </a:xfrm>
          <a:prstGeom prst="leftRightArrow">
            <a:avLst>
              <a:gd name="adj1" fmla="val 50000"/>
              <a:gd name="adj2" fmla="val 27921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545920" y="1168560"/>
            <a:ext cx="378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00"/>
                </a:solidFill>
                <a:latin typeface="Arial"/>
              </a:rPr>
              <a:t>EMPREENDEDOR/REQUEREN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26880" y="6197760"/>
            <a:ext cx="378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00"/>
                </a:solidFill>
                <a:latin typeface="Arial"/>
              </a:rPr>
              <a:t>EMPREENDEDOR/REQUEREN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108400" y="6186600"/>
            <a:ext cx="378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00"/>
                </a:solidFill>
                <a:latin typeface="Arial"/>
              </a:rPr>
              <a:t>EMPREENDEDOR/REQUEREN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rot="18284400">
            <a:off x="2011680" y="27597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55960" y="57913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rot="7381800">
            <a:off x="2316600" y="32468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rot="3258600">
            <a:off x="5697720" y="3383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976560" y="53341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rot="13957800">
            <a:off x="6020640" y="298476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rot="12967800">
            <a:off x="3025440" y="3527280"/>
            <a:ext cx="681120" cy="486000"/>
          </a:xfrm>
          <a:prstGeom prst="leftRightArrow">
            <a:avLst>
              <a:gd name="adj1" fmla="val 50000"/>
              <a:gd name="adj2" fmla="val 279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rot="16195800">
            <a:off x="4016880" y="4821840"/>
            <a:ext cx="681120" cy="485640"/>
          </a:xfrm>
          <a:prstGeom prst="leftRightArrow">
            <a:avLst>
              <a:gd name="adj1" fmla="val 50000"/>
              <a:gd name="adj2" fmla="val 27921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rot="19653000">
            <a:off x="5262480" y="3657600"/>
            <a:ext cx="681120" cy="485640"/>
          </a:xfrm>
          <a:prstGeom prst="leftRightArrow">
            <a:avLst>
              <a:gd name="adj1" fmla="val 50000"/>
              <a:gd name="adj2" fmla="val 27921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38360" y="2997360"/>
            <a:ext cx="5791320" cy="2361960"/>
          </a:xfrm>
          <a:prstGeom prst="rightArrowCallout">
            <a:avLst>
              <a:gd name="adj1" fmla="val 25002"/>
              <a:gd name="adj2" fmla="val 25000"/>
              <a:gd name="adj3" fmla="val 40865"/>
              <a:gd name="adj4" fmla="val 66667"/>
            </a:avLst>
          </a:prstGeom>
          <a:gradFill rotWithShape="0">
            <a:gsLst>
              <a:gs pos="0">
                <a:srgbClr val="65a865"/>
              </a:gs>
              <a:gs pos="50000">
                <a:srgbClr val="99ff99"/>
              </a:gs>
              <a:gs pos="100000">
                <a:srgbClr val="65a865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CERTIFICADOS O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AUTORIZAÇÕ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89360" y="189000"/>
            <a:ext cx="873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99ff99"/>
                </a:solidFill>
                <a:uFillTx/>
                <a:latin typeface="Arial"/>
              </a:rPr>
              <a:t>SISTEMA INTEGRADO DE MEIO AMBIENTE - SI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500"/>
                            </p:stCondLst>
                            <p:childTnLst>
                              <p:par>
                                <p:cTn id="10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50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500"/>
                            </p:stCondLst>
                            <p:childTnLst>
                              <p:par>
                                <p:cTn id="15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500"/>
                            </p:stCondLst>
                            <p:childTnLst>
                              <p:par>
                                <p:cTn id="16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4000"/>
                            </p:stCondLst>
                            <p:childTnLst>
                              <p:par>
                                <p:cTn id="16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 rot="12993600">
            <a:off x="5765400" y="5000400"/>
            <a:ext cx="808200" cy="485640"/>
          </a:xfrm>
          <a:prstGeom prst="rightArrow">
            <a:avLst>
              <a:gd name="adj1" fmla="val 50000"/>
              <a:gd name="adj2" fmla="val 41605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rot="8251200">
            <a:off x="5812560" y="2589120"/>
            <a:ext cx="747720" cy="486000"/>
          </a:xfrm>
          <a:prstGeom prst="rightArrow">
            <a:avLst>
              <a:gd name="adj1" fmla="val 50000"/>
              <a:gd name="adj2" fmla="val 38463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rot="2386200">
            <a:off x="2590920" y="2596680"/>
            <a:ext cx="761760" cy="486000"/>
          </a:xfrm>
          <a:prstGeom prst="rightArrow">
            <a:avLst>
              <a:gd name="adj1" fmla="val 50000"/>
              <a:gd name="adj2" fmla="val 39185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rot="19684800">
            <a:off x="2734920" y="5087880"/>
            <a:ext cx="752400" cy="486000"/>
          </a:xfrm>
          <a:prstGeom prst="rightArrow">
            <a:avLst>
              <a:gd name="adj1" fmla="val 50000"/>
              <a:gd name="adj2" fmla="val 38704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557520" y="2971800"/>
            <a:ext cx="2057400" cy="2209680"/>
          </a:xfrm>
          <a:prstGeom prst="flowChartMagneticDisk">
            <a:avLst/>
          </a:prstGeom>
          <a:gradFill rotWithShape="0">
            <a:gsLst>
              <a:gs pos="0">
                <a:srgbClr val="979665"/>
              </a:gs>
              <a:gs pos="50000">
                <a:srgbClr val="c8c686"/>
              </a:gs>
              <a:gs pos="100000">
                <a:srgbClr val="97966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167360" y="30481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B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786120" y="3745080"/>
            <a:ext cx="914400" cy="380880"/>
          </a:xfrm>
          <a:prstGeom prst="flowChartAlternateProcess">
            <a:avLst/>
          </a:prstGeom>
          <a:gradFill rotWithShape="0">
            <a:gsLst>
              <a:gs pos="0">
                <a:srgbClr val="755e5e"/>
              </a:gs>
              <a:gs pos="50000">
                <a:srgbClr val="ffcccc"/>
              </a:gs>
              <a:gs pos="100000">
                <a:srgbClr val="755e5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População urbana atendida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por sistema de disposição 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de lixo, com LO do COPAM.</a:t>
            </a:r>
            <a:r>
              <a:rPr b="1" lang="pt-PT" sz="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4700520" y="3745080"/>
            <a:ext cx="762120" cy="720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8ae8"/>
            </a:outerShdw>
          </a:effectLst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4395960" y="4248000"/>
            <a:ext cx="990360" cy="6289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graphicFrame>
        <p:nvGraphicFramePr>
          <p:cNvPr id="276" name=""/>
          <p:cNvGraphicFramePr/>
          <p:nvPr/>
        </p:nvGraphicFramePr>
        <p:xfrm>
          <a:off x="3862440" y="4202280"/>
          <a:ext cx="838080" cy="75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62440" y="4202280"/>
                    <a:ext cx="838080" cy="7506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8ae8"/>
                    </a:outerShdw>
                  </a:effectLst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1042920" y="1600200"/>
            <a:ext cx="1905120" cy="137160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537d4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ff00"/>
                </a:solidFill>
                <a:latin typeface="Arial"/>
              </a:rPr>
              <a:t>IE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ff00"/>
                </a:solidFill>
                <a:latin typeface="Arial"/>
              </a:rPr>
              <a:t>Licenciam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ff00"/>
                </a:solidFill>
                <a:latin typeface="Arial"/>
              </a:rPr>
              <a:t>APE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148440" y="1600200"/>
            <a:ext cx="1905120" cy="129528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408e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G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Outorg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148440" y="5181480"/>
            <a:ext cx="2057400" cy="137160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17181" dir="2438368" blurRad="0" rotWithShape="0">
              <a:srgbClr val="a87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E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Licenciam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119240" y="5181480"/>
            <a:ext cx="1905120" cy="12956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c8c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EM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GE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89360" y="189000"/>
            <a:ext cx="873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99ff99"/>
                </a:solidFill>
                <a:uFillTx/>
                <a:latin typeface="Arial"/>
              </a:rPr>
              <a:t>SISTEMA INTEGRADO DE MEIO AMBIENTE - SI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5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3086280" y="1341360"/>
            <a:ext cx="3073320" cy="962280"/>
          </a:xfrm>
          <a:prstGeom prst="ellipse">
            <a:avLst/>
          </a:prstGeom>
          <a:gradFill rotWithShape="0">
            <a:gsLst>
              <a:gs pos="0">
                <a:srgbClr val="752f5e"/>
              </a:gs>
              <a:gs pos="50000">
                <a:srgbClr val="ff66cc"/>
              </a:gs>
              <a:gs pos="100000">
                <a:srgbClr val="752f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ADASTRAMENT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 ORIENTA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243240" y="2590920"/>
            <a:ext cx="2757600" cy="969840"/>
          </a:xfrm>
          <a:prstGeom prst="ellipse">
            <a:avLst/>
          </a:prstGeom>
          <a:gradFill rotWithShape="0">
            <a:gsLst>
              <a:gs pos="0">
                <a:srgbClr val="43a821"/>
              </a:gs>
              <a:gs pos="50000">
                <a:srgbClr val="66ff33"/>
              </a:gs>
              <a:gs pos="100000">
                <a:srgbClr val="43a82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FORMALIZA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 DISTRIBUI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763800" y="3860640"/>
            <a:ext cx="1717920" cy="503280"/>
          </a:xfrm>
          <a:prstGeom prst="ellipse">
            <a:avLst/>
          </a:prstGeom>
          <a:gradFill rotWithShape="0">
            <a:gsLst>
              <a:gs pos="0">
                <a:srgbClr val="43a8a8"/>
              </a:gs>
              <a:gs pos="50000">
                <a:srgbClr val="66ffff"/>
              </a:gs>
              <a:gs pos="100000">
                <a:srgbClr val="43a8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NÁLI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673440" y="4653000"/>
            <a:ext cx="1897200" cy="504720"/>
          </a:xfrm>
          <a:prstGeom prst="ellipse">
            <a:avLst/>
          </a:prstGeom>
          <a:gradFill rotWithShape="0">
            <a:gsLst>
              <a:gs pos="0">
                <a:srgbClr val="9ba878"/>
              </a:gs>
              <a:gs pos="50000">
                <a:srgbClr val="ecffb7"/>
              </a:gs>
              <a:gs pos="100000">
                <a:srgbClr val="9ba87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ECIS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621320" y="2303640"/>
            <a:ext cx="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621320" y="357336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621320" y="4365720"/>
            <a:ext cx="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pt-BR" sz="3200" spc="-1" strike="noStrike">
                <a:solidFill>
                  <a:srgbClr val="ffcc00"/>
                </a:solidFill>
                <a:latin typeface="Arial"/>
              </a:rPr>
              <a:t>MÓDULOS SIAM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6561720" y="5278680"/>
            <a:ext cx="1996200" cy="1361520"/>
            <a:chOff x="6561720" y="5278680"/>
            <a:chExt cx="1996200" cy="1361520"/>
          </a:xfrm>
        </p:grpSpPr>
        <p:sp>
          <p:nvSpPr>
            <p:cNvPr id="292" name=""/>
            <p:cNvSpPr txBox="1"/>
            <p:nvPr/>
          </p:nvSpPr>
          <p:spPr>
            <a:xfrm rot="19488000">
              <a:off x="6659640" y="5516280"/>
              <a:ext cx="1038240" cy="669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ArchUpPour">
                <a:avLst>
                  <a:gd name="adj1" fmla="val 10800000"/>
                  <a:gd name="adj2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9360">
                    <a:solidFill>
                      <a:srgbClr val="afe1ff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Unicode MS"/>
                </a:rPr>
                <a:t>DvRC</a:t>
              </a:r>
              <a:endParaRPr b="0" lang="en-US" sz="2800" spc="1" strike="noStrike">
                <a:ln w="9360">
                  <a:solidFill>
                    <a:srgbClr val="afe1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Unicode MS"/>
                <a:ea typeface="Arial Unicode MS"/>
              </a:endParaRPr>
            </a:p>
          </p:txBody>
        </p:sp>
        <p:sp>
          <p:nvSpPr>
            <p:cNvPr id="293" name=""/>
            <p:cNvSpPr txBox="1"/>
            <p:nvPr/>
          </p:nvSpPr>
          <p:spPr>
            <a:xfrm rot="19488000">
              <a:off x="7421400" y="5732280"/>
              <a:ext cx="1038240" cy="669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ArchDownPour">
                <a:avLst>
                  <a:gd name="adj1" fmla="val 0"/>
                  <a:gd name="adj2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1" strike="noStrike">
                  <a:ln w="9360">
                    <a:solidFill>
                      <a:srgbClr val="afe1ff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Unicode MS"/>
                </a:rPr>
                <a:t>IGAM</a:t>
              </a:r>
              <a:endParaRPr b="0" i="1" lang="en-US" sz="2800" spc="1" strike="noStrike">
                <a:ln w="9360">
                  <a:solidFill>
                    <a:srgbClr val="afe1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Unicode MS"/>
                <a:ea typeface="Arial Unicode MS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1491840" y="1533600"/>
            <a:ext cx="991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440" indent="-1440">
              <a:lnSpc>
                <a:spcPct val="8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FCE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563880" y="1533600"/>
            <a:ext cx="10310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440" indent="-1440">
              <a:lnSpc>
                <a:spcPct val="8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FOB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484360" y="1749600"/>
            <a:ext cx="358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208560" y="1749600"/>
            <a:ext cx="358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578400" y="5445000"/>
            <a:ext cx="2087280" cy="64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UBLICAÇÕ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622760" y="515772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990720" y="3500280"/>
            <a:ext cx="761976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entrais de Orientação Virtuai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entral de Digitalização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fra – estrutura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igração de Banco de Dado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einamento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mpanha de Comunicação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 rot="19488000">
            <a:off x="6659640" y="5516280"/>
            <a:ext cx="1038240" cy="66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1080000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afe1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Unicode MS"/>
              </a:rPr>
              <a:t>DvRC</a:t>
            </a:r>
            <a:endParaRPr b="0" lang="en-US" sz="2800" spc="1" strike="noStrike">
              <a:ln w="9360">
                <a:solidFill>
                  <a:srgbClr val="afe1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302" name=""/>
          <p:cNvSpPr txBox="1"/>
          <p:nvPr/>
        </p:nvSpPr>
        <p:spPr>
          <a:xfrm rot="19488000">
            <a:off x="7421400" y="5732280"/>
            <a:ext cx="1038240" cy="66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DownPour">
              <a:avLst>
                <a:gd name="adj1" fmla="val 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afe1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Unicode MS"/>
              </a:rPr>
              <a:t>IGAM</a:t>
            </a:r>
            <a:endParaRPr b="0" i="1" lang="en-US" sz="2800" spc="1" strike="noStrike">
              <a:ln w="9360">
                <a:solidFill>
                  <a:srgbClr val="afe1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2565000"/>
            <a:ext cx="878544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pt-BR" sz="3200" spc="-1" strike="noStrike">
                <a:solidFill>
                  <a:srgbClr val="ffcc00"/>
                </a:solidFill>
                <a:latin typeface="Arial"/>
              </a:rPr>
              <a:t>REQUISITO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79280" y="115920"/>
            <a:ext cx="8785440" cy="9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pt-BR" sz="3200" spc="-1" strike="noStrike">
                <a:solidFill>
                  <a:srgbClr val="ffcc00"/>
                </a:solidFill>
                <a:latin typeface="Arial"/>
              </a:rPr>
              <a:t>PRODU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6600" y="907560"/>
            <a:ext cx="79308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79280">
              <a:spcBef>
                <a:spcPts val="1500"/>
              </a:spcBef>
              <a:buClr>
                <a:srgbClr val="ff0000"/>
              </a:buClr>
              <a:buSzPct val="5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CEI e FOBI eletrônicos, em agosto de 2003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79280">
              <a:spcBef>
                <a:spcPts val="1500"/>
              </a:spcBef>
              <a:buClr>
                <a:srgbClr val="ff0000"/>
              </a:buClr>
              <a:buSzPct val="5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istema Integrado Licenciamento, em outubro de 2003 </a:t>
            </a:r>
            <a:r>
              <a:rPr b="1" lang="pt-B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Licença + APEF + Outorg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 rot="19488000">
            <a:off x="6432480" y="5516280"/>
            <a:ext cx="1038240" cy="66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1080000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afe1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Unicode MS"/>
              </a:rPr>
              <a:t>DvRC</a:t>
            </a:r>
            <a:endParaRPr b="0" lang="en-US" sz="2800" spc="1" strike="noStrike">
              <a:ln w="9360">
                <a:solidFill>
                  <a:srgbClr val="afe1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307" name=""/>
          <p:cNvSpPr txBox="1"/>
          <p:nvPr/>
        </p:nvSpPr>
        <p:spPr>
          <a:xfrm rot="19488000">
            <a:off x="7194600" y="5732280"/>
            <a:ext cx="1038240" cy="66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DownPour">
              <a:avLst>
                <a:gd name="adj1" fmla="val 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afe1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Unicode MS"/>
              </a:rPr>
              <a:t>IGAM</a:t>
            </a:r>
            <a:endParaRPr b="0" i="1" lang="en-US" sz="2800" spc="1" strike="noStrike">
              <a:ln w="9360">
                <a:solidFill>
                  <a:srgbClr val="afe1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611280" y="2057400"/>
            <a:ext cx="1681200" cy="98748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 rot="10906200">
            <a:off x="991800" y="1599480"/>
            <a:ext cx="1155600" cy="444600"/>
          </a:xfrm>
          <a:custGeom>
            <a:avLst/>
            <a:gdLst>
              <a:gd name="textAreaLeft" fmla="*/ 201960 w 1155600"/>
              <a:gd name="textAreaRight" fmla="*/ 837720 w 1155600"/>
              <a:gd name="textAreaTop" fmla="*/ 59400 h 444600"/>
              <a:gd name="textAreaBottom" fmla="*/ 385200 h 44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836360" y="1579680"/>
            <a:ext cx="805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Arial Unicode MS"/>
              </a:rPr>
              <a:t>FCEI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915840" y="2924280"/>
            <a:ext cx="1138320" cy="504720"/>
          </a:xfrm>
          <a:custGeom>
            <a:avLst/>
            <a:gdLst>
              <a:gd name="textAreaLeft" fmla="*/ 199080 w 1138320"/>
              <a:gd name="textAreaRight" fmla="*/ 825480 w 1138320"/>
              <a:gd name="textAreaTop" fmla="*/ 67320 h 504720"/>
              <a:gd name="textAreaBottom" fmla="*/ 43740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357200" y="3124080"/>
            <a:ext cx="10828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pt-BR" sz="2300" spc="-1" strike="noStrike">
                <a:solidFill>
                  <a:srgbClr val="000000"/>
                </a:solidFill>
                <a:latin typeface="Arial Unicode MS"/>
              </a:rPr>
              <a:t>FOBI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516040" y="2438280"/>
            <a:ext cx="457200" cy="381240"/>
          </a:xfrm>
          <a:prstGeom prst="rightArrow">
            <a:avLst>
              <a:gd name="adj1" fmla="val 50000"/>
              <a:gd name="adj2" fmla="val 29981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3193920" y="1676520"/>
            <a:ext cx="549360" cy="6094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3"/>
          <a:stretch/>
        </p:blipFill>
        <p:spPr>
          <a:xfrm>
            <a:off x="5024520" y="1143000"/>
            <a:ext cx="1149120" cy="7621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4"/>
          <a:stretch/>
        </p:blipFill>
        <p:spPr>
          <a:xfrm>
            <a:off x="5024520" y="2133720"/>
            <a:ext cx="1225440" cy="81252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5"/>
          <a:stretch/>
        </p:blipFill>
        <p:spPr>
          <a:xfrm>
            <a:off x="4948200" y="3276720"/>
            <a:ext cx="1301760" cy="86364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6"/>
          <a:stretch/>
        </p:blipFill>
        <p:spPr>
          <a:xfrm>
            <a:off x="3049560" y="2895480"/>
            <a:ext cx="773280" cy="69372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3281760" y="2514600"/>
            <a:ext cx="3484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6d6a00"/>
                </a:solidFill>
                <a:latin typeface="Arial Unicode MS"/>
              </a:rPr>
              <a:t>+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421160" y="1600200"/>
            <a:ext cx="380880" cy="2209680"/>
          </a:xfrm>
          <a:custGeom>
            <a:avLst/>
            <a:gdLst>
              <a:gd name="textAreaLeft" fmla="*/ 243360 w 380880"/>
              <a:gd name="textAreaRight" fmla="*/ 381240 w 38088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707160" y="1835280"/>
            <a:ext cx="1981080" cy="52020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 Unicode MS"/>
              </a:rPr>
              <a:t>INFORMAÇÕE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 Unicode MS"/>
              </a:rPr>
              <a:t>COMPLEMENTAR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707160" y="3048120"/>
            <a:ext cx="1981080" cy="59616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 Unicode MS"/>
              </a:rPr>
              <a:t>CONDICIONAN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Documents"/>
          <p:cNvSpPr/>
          <p:nvPr/>
        </p:nvSpPr>
        <p:spPr>
          <a:xfrm>
            <a:off x="3430440" y="1828800"/>
            <a:ext cx="447840" cy="6094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7"/>
          <a:stretch/>
        </p:blipFill>
        <p:spPr>
          <a:xfrm>
            <a:off x="3025800" y="1905120"/>
            <a:ext cx="611280" cy="68580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 rot="10800000">
            <a:off x="6326280" y="1600200"/>
            <a:ext cx="380880" cy="2209680"/>
          </a:xfrm>
          <a:custGeom>
            <a:avLst/>
            <a:gdLst>
              <a:gd name="textAreaLeft" fmla="*/ 243360 w 380880"/>
              <a:gd name="textAreaRight" fmla="*/ 381240 w 38088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130720" y="1757520"/>
            <a:ext cx="9838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Arial Black"/>
              </a:rPr>
              <a:t>IGAM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253120" y="2819520"/>
            <a:ext cx="990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Arial Black"/>
              </a:rPr>
              <a:t>IEF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232240" y="3981600"/>
            <a:ext cx="982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Arial Black"/>
              </a:rPr>
              <a:t>FEAM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668680" y="4211640"/>
            <a:ext cx="1523880" cy="59616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 Unicode MS"/>
              </a:rPr>
              <a:t>PUBLICAÇÕ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516040" y="1125360"/>
            <a:ext cx="1981440" cy="59616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 Unicode MS"/>
              </a:rPr>
              <a:t>PROCESSO SEMA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925880" y="4419720"/>
            <a:ext cx="14763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430440" y="5181480"/>
            <a:ext cx="4572000" cy="65664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Unicode MS"/>
              </a:rPr>
              <a:t>LICENCIAMENTO AMBIENTAL INTEGR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040280" y="6172200"/>
            <a:ext cx="3200400" cy="59616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 Unicode MS"/>
              </a:rPr>
              <a:t>LICENÇAS, APEF E OUTORG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049560" y="3733920"/>
            <a:ext cx="79056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259240" y="5715000"/>
            <a:ext cx="79056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79280" y="115920"/>
            <a:ext cx="8785440" cy="9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pt-BR" sz="3200" spc="-1" strike="noStrike">
                <a:solidFill>
                  <a:srgbClr val="ffcc00"/>
                </a:solidFill>
                <a:latin typeface="Arial"/>
              </a:rPr>
              <a:t>FLUX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3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000"/>
                            </p:stCondLst>
                            <p:childTnLst>
                              <p:par>
                                <p:cTn id="3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500"/>
                            </p:stCondLst>
                            <p:childTnLst>
                              <p:par>
                                <p:cTn id="3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3T19:05:33Z</dcterms:created>
  <dc:creator>ASCOM</dc:creator>
  <dc:description/>
  <dc:language>en-US</dc:language>
  <cp:lastModifiedBy>dico-outorga</cp:lastModifiedBy>
  <dcterms:modified xsi:type="dcterms:W3CDTF">2004-04-28T19:45:29Z</dcterms:modified>
  <cp:revision>133</cp:revision>
  <dc:subject/>
  <dc:title>Apresentação do PowerPoint</dc:title>
</cp:coreProperties>
</file>